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958-F788-4E83-BA35-2E5ACEC1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A79-C176-4128-AB97-92533033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C11B-2B9A-4586-BA9B-E1D33046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5021-87FD-451F-8B95-0745CBB7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330-D1F7-4E60-811B-D0DA4D26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4CD-6C6A-4BAA-82A8-F4F1FBDE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125-EA97-412C-BD4A-B3598103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C4B-CF11-4FF8-B4E2-178C3287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DC6-E039-414D-8A9F-43E411CE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1CC-0A49-4C9E-991B-F4F9FA93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BD4-8AD7-41B9-A88C-E0C83ACB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568-484D-4AA8-BB2A-9EA504A2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78A1-2992-45C2-9939-C63754F35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304920"/>
            <a:ext cx="5572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Casa De Mis Suenos</a:t>
            </a:r>
            <a:endParaRPr b="0" lang="en-US" sz="4800" spc="1" strike="noStrike">
              <a:ln w="1908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5475240" y="1865160"/>
            <a:ext cx="352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Mi casa esta localizada en Mi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Tie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iete dormi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uarto b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oc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Lujoso com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La piscina d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No tiene ya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os salas de tel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ala de jue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uarto d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Po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Terraz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olum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56386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37 Pine Hill Road, Miami 33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638680" y="380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04920" y="3657600"/>
            <a:ext cx="3352680" cy="2955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6160" y="441972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Es el cuarto de las muchachas, muy bonita y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52480" y="533520"/>
            <a:ext cx="5410440" cy="361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55760" y="4836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10880" y="4952880"/>
            <a:ext cx="51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Es el dormitorio principal es muy bonita y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4120" y="5335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334120" y="3505320"/>
            <a:ext cx="3624120" cy="2665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80880" y="3352680"/>
            <a:ext cx="3934080" cy="2946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937040" y="4303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20" y="380880"/>
            <a:ext cx="47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el cuartos de los muchachos, muy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191120" cy="299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800600" y="3657600"/>
            <a:ext cx="3786120" cy="3029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029200" y="2971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Unicode MS"/>
              </a:rPr>
              <a:t>El es bano de grande y luj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648320" y="380880"/>
            <a:ext cx="41716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5334120" cy="3473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4229280" cy="3137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08400" y="64620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La cocine es grande y lujo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20" y="5029200"/>
            <a:ext cx="44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La comedor es lujoso y un poco penqu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248160" cy="4109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5440" y="5410080"/>
            <a:ext cx="422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La piscina dentro el grande y </a:t>
            </a:r>
            <a:r>
              <a:rPr b="0" lang="es-ES" sz="1800" spc="-1" strike="noStrike">
                <a:solidFill>
                  <a:srgbClr val="9900ff"/>
                </a:solidFill>
                <a:latin typeface="Arial"/>
              </a:rPr>
              <a:t>diversión</a:t>
            </a: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3809880" cy="4000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9160" y="2133720"/>
            <a:ext cx="38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ala de television es grande y luj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657600" y="3505320"/>
            <a:ext cx="470520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5334120" cy="3467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9600" y="2971800"/>
            <a:ext cx="34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ala de juegos grande y bo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162320" y="3448080"/>
            <a:ext cx="4981680" cy="3409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48440" y="358128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ala de juegos grande y bo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46:58Z</dcterms:created>
  <dc:creator>capistrancad</dc:creator>
  <dc:description/>
  <dc:language>en-US</dc:language>
  <cp:lastModifiedBy>capistrancad</cp:lastModifiedBy>
  <dcterms:modified xsi:type="dcterms:W3CDTF">2012-05-25T14:01:29Z</dcterms:modified>
  <cp:revision>6</cp:revision>
  <dc:subject/>
  <dc:title>Slide 1</dc:title>
</cp:coreProperties>
</file>